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D6725-A98A-41FF-908D-B2AE8259C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7846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3C81-A047-4DBD-957B-81E4FF7F5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70628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16E06-55E0-442E-A87C-DB8CD7186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38640" y="155700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91840" y="155700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91840" y="396432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D6C73-32F0-4B95-860B-7BA4F3FA6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58757-FBAE-4A9D-8ADE-2B1F99E2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0EFCC-427A-46C6-9BC5-0E1D3BC0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DBCBB-F290-4C1C-B17C-A36B9992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02212-8741-4A97-9486-59BA33E9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CDB09-8441-4AEA-A3BE-DCE115A0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A6901-3B45-4107-ABB5-FD8C9628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36AEA-A814-4947-83E0-A0C701F5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31926-CB24-4020-B95C-81DDB2EEC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0628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F0AD4-838B-498B-83AC-676B597E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7846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47ABF-D604-4849-8AA2-96F6E4E4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7846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2C714-EE63-46CF-8BA8-E3ECB864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0628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35C02-CF5B-44FB-A4EE-D3B0492E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38640" y="155700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91840" y="155700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91840" y="396432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A46EA-4F02-4FA3-9871-58124E50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893A4-37E5-4B9B-8AA7-F15DFC4DD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75777-991B-423E-A37D-4029232F1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D7F7-1E7E-4464-8025-3A12FE678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D2450-DAE4-42A9-99D4-836C83B4E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2AF42-1E79-4CBC-AD37-9F286B60B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70628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00E63-13C0-4BC2-8214-5F1C1D1C7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7846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8D064-5716-4543-9D75-65D53BD0B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ET    IST-2001-3904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BEA2-1AD9-456A-904F-6C003FEC59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9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B4D7-50F3-4DDB-B756-072B283AFC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590920"/>
            <a:ext cx="45720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2388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 E S E T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Roadmap for European research on Smartcard Technologi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895480" y="5333760"/>
            <a:ext cx="3733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uno Le Dante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IE ERC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506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52480" y="3809880"/>
            <a:ext cx="561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b41"/>
                </a:solidFill>
                <a:latin typeface="Arial"/>
              </a:rPr>
              <a:t>Lessons from the RESET experience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462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Need for collaborative RTD</a:t>
            </a:r>
            <a:r>
              <a:rPr b="0" lang="fr-FR" sz="3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52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art card technology needs are specific: those will NOT be addressed by other (not SC dedicated) program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ort required for SC technology developments is far beyond the means of single organisations and a singl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P6 provides a suitable collaboration framework, and the opportunity for an 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Trusted Personal Device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561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od news : establishment of a consortium representing the large majority of SC and SC component manufactures and leading research institu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 : this collaboration must focus on technology developments – applications are not in the project sc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pefully future IP calls will provide additional support for smart card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A strong Partnershi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0000"/>
          </a:bodyPr>
          <a:p>
            <a:pPr marL="308520" indent="-308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artnership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Industrial and Academic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35 memb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search &amp; technology institu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pliers of SC systems compon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rds and accepting devices issuing organis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249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art of the project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57 participant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urrent situation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105 participa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spcBef>
                <a:spcPts val="249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Technical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UROSM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dministrative and financial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RC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upport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104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A Challenging Roadma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RESET is aiming 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global strategy regarding Smart Cards technology priorities and R&amp;D orientation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derate SM key players around a consensual vision of the future of Trusted Personal Devic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vide a reliable ground for the European Commission and National programmes to identify and support the smart card related research priorities within FP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104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An Iterative and fast Proces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ince September (7 month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db4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dentification of the main domains and a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250"/>
              </a:spcBef>
              <a:buClr>
                <a:srgbClr val="ffdb4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up of six working groups + Mee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250"/>
              </a:spcBef>
              <a:buClr>
                <a:srgbClr val="ffdb4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tegrate results and define tomorrow’s prior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Today: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raft version  + Public semin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hort term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250"/>
              </a:spcBef>
              <a:buClr>
                <a:srgbClr val="ffdb4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raft version to be disseminated globally outside consortium + feedback col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250"/>
              </a:spcBef>
              <a:buClr>
                <a:srgbClr val="ffdb4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alidation and Final 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Long ter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250"/>
              </a:spcBef>
              <a:buClr>
                <a:srgbClr val="ffdb4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admap seeding for Academia, Industry, and EC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30481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db4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104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RESET Snapshot conclus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846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mart Cards market potential is glob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999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urope &amp; ME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903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888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786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sia &amp; Pac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62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424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447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merica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64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91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518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429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603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751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uropean actors must work together to uphold their lead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dditional research efforts are ess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ameworks and support are necess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lunch is not far and we have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09120" y="1334880"/>
            <a:ext cx="8153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und table dis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nks with the other roadmap initiativ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s on the RESET recommend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ed-back for adjus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ST FP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st and security activities in the FP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ments on RE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 IP project under FP6 first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om smart cards to Trusted Personal De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4111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Afternoon sess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2388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 E S E T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Roadmap for European research on Smartcard Technologi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484360" y="4508640"/>
            <a:ext cx="4114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uno Cucine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19440" y="4076640"/>
            <a:ext cx="18396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5066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403280" y="2637000"/>
            <a:ext cx="61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b41"/>
                </a:solidFill>
                <a:latin typeface="Arial"/>
              </a:rPr>
              <a:t>From Smart Cards to Trusted Personal Devic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How to reboot after RESET 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1760" y="1557000"/>
            <a:ext cx="7986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ET establishes a common view of experts from industry and research on smart card technology bottlene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cope of RESET is beyond and Integrated Project and even beyond FP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ESET roadmap is a reference for experts and decision makers concerned by smart card related R&amp;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3264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Next generation smart card opportunitie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80661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uge business growth potential for smart cards in “traditional” and future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address those, the smart card must overcome its current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om smart cards to Trusted Personal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16:55:33Z</dcterms:created>
  <dc:creator>trutkowski</dc:creator>
  <dc:description/>
  <dc:language>en-US</dc:language>
  <cp:lastModifiedBy>FLORENCE Gras</cp:lastModifiedBy>
  <cp:lastPrinted>2003-01-31T14:01:30Z</cp:lastPrinted>
  <dcterms:modified xsi:type="dcterms:W3CDTF">2003-04-09T10:21:00Z</dcterms:modified>
  <cp:revision>192</cp:revision>
  <dc:subject/>
  <dc:title>ENUM Implementation in the US</dc:title>
</cp:coreProperties>
</file>