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5337-BAA1-4775-8630-9EEDA27D9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3195-7E02-42F3-A16D-7F7437273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1D6E-3225-4999-B7C6-1A032C449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386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918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918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87EE-C822-4779-9782-BD0019530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F0706-04D5-4618-9A2E-D67FEE3E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EAF3-D23D-4275-AF34-BBCA20B6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DD453-1080-452B-BFB1-6ACE08F8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58D8F-7B6F-4470-998F-35A0FE88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289F4-5017-45B5-BD6F-9C4B8A55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DBD13-9037-4543-A11C-CD1BFDC4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68D54-10B8-4C23-95E2-1FE32562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AD4D-36F7-43F3-9628-3A2596240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5D681-DFBA-473A-94C8-4E68E4A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BDC55-29C6-4CFF-BC9A-910DF656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7B367-2BD3-4205-A897-58FC6AAE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5E887-DF9C-4510-987C-494B3C7B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386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91840" y="155700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91840" y="3964320"/>
            <a:ext cx="25264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5A98B-7836-438A-A16D-40CBF97A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7D9C-FF86-4E38-BE68-765298763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261F-216F-457C-831C-C3C6D2E60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8C84-37CC-4AF6-AC74-A8A432C27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99D2-5B8F-41B2-9977-A53C555DC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273B-1A21-477F-BB98-A2542BE3E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06280" y="396432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94CB-A764-4813-8576-055044ED3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6280" y="1557000"/>
            <a:ext cx="3828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7846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D1F0-C879-4D76-A50B-3511FD599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ET    IST-2001-390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0740-24BC-4F8E-97BE-75398DD580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CD1-D2BF-40B1-87E5-BBD423B242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90920"/>
            <a:ext cx="4572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T Seminar - 3 April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76360" y="2708280"/>
            <a:ext cx="6191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 "/>
              </a:rPr>
              <a:t>FROM SMART CARD TO TRUSTED PERSONAL DE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 "/>
              </a:rPr>
              <a:t>Challenges for futur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mI component that must be integrated into societ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speed &amp;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f pow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orm fa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ackwards compat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ew application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to throw the baby out with the bath water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6443640" y="486900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T Se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April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76360" y="270828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 "/>
              </a:rPr>
              <a:t>FROM SMART CARD TO TRUSTED PERSONAL DE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Ulrich BÜK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 Systems Gmb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T Workgroup Lea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95280" y="299736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"/>
              </a:rPr>
              <a:t>Challenges for futur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"/>
              </a:rPr>
              <a:t>Systems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ystems Manageme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37440" cy="42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6388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-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6388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6388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6388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stem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6388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d accepting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6388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d and Device Managemen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6388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f-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6388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2133720"/>
            <a:ext cx="533520" cy="2666880"/>
          </a:xfrm>
          <a:prstGeom prst="downArrow">
            <a:avLst>
              <a:gd name="adj1" fmla="val 50000"/>
              <a:gd name="adj2" fmla="val 124966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Operating System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tandard operating system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multi-application, multi-threa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high-level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mart Card specific O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resource control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deadlock prevention / det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ptimised resource us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upport of new communication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peer-to-pe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TCP/IPv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Operating System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Main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variety of smart card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hinders the development of more sophisticated operating systems and programming langu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normous porting co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limited resources on smart c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difficult adaption of state of the art IT techniq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Development Tool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pressive programming 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integrating features of general-purpose langu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support of smart card specific idio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domain-specific langu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Modelling and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considered in the design of programming langu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program proof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Development Tool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Main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improve 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improve certification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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Formal Methods on different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formal mode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formal verif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program verif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ystem Integr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Main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integration of smart cards into information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daptation of software engineering results : middleware, integration to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management of smart cards and their cont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mart cards as application serv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fundamental approach for defining the mo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ystem Integr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Advanced smart card programmability and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on-card and off-card framewor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dynamic management of card framework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middleware technolog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cenario and application independ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63640" y="4648320"/>
            <a:ext cx="5616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ter Hartel (University Twe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ard de Jong (Sun Micro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95280" y="299736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hallenges for futur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Integration in networked systems and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ard Accepting Devic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Physical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incorporation into everyday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.g. watch, 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secure CA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prevention of Trojan horses when entering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.g. PIN, biome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ata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wireless, secure channel between CAD and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high speed protocols to be suppor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ard / Device Manageme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tandard architectures of C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STIP, FinRead, Global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common test suites 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security certification proced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hared infrastructures between card and term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less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increased tru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management of different user credenti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T Se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April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270828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 "/>
              </a:rPr>
              <a:t>FROM SMART CARD TO TRUSTED PERSONAL DE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495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-Paul THOMAS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Microelect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476360" y="299736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 Black"/>
              </a:rPr>
              <a:t>Challenges for Secure System On Chip &amp; System On Card</a:t>
            </a:r>
            <a:r>
              <a:rPr b="1" lang="fr-FR" sz="3200" spc="-1" strike="noStrike">
                <a:solidFill>
                  <a:srgbClr val="ffcc00"/>
                </a:solidFill>
                <a:latin typeface="Arial 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Age of TOTAL ACCES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cc00"/>
                </a:solidFill>
                <a:latin typeface="Arial"/>
              </a:rPr>
              <a:t>Giving customers what they want in an “Anytime, Anywhere World”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ges of “Reach and Push” are marketing leg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 dialogue between the customer and the produ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ve “Laws”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cc00"/>
                </a:solidFill>
                <a:latin typeface="Arial"/>
              </a:rPr>
              <a:t>Smart Card: the perfect enabling technology for the Age of Total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ive Laws (1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"/>
              </a:rPr>
              <a:t>Moore’s La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th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Number of Transisto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n a chip doubles every 18 to 24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"/>
              </a:rPr>
              <a:t>Metcalfe’s La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the value of the network increases by th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square of th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"/>
              </a:rPr>
              <a:t>Gilder’s La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th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ommunications bandwid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growing faster than computing power by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oubling every ye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It will continue to do so for the next twenty-five year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ive Laws (2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846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cc00"/>
                </a:solidFill>
                <a:latin typeface="Arial"/>
              </a:rPr>
              <a:t>Law of Stor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Infinite storage for an Infinite Amount of Information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the network revolution to progress, storage and memory performance with corresponding decreases in cost must expand at a rate faster than in Moore’s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cc00"/>
                </a:solidFill>
                <a:latin typeface="Arial"/>
              </a:rPr>
              <a:t>Software Law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there i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No Law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ftware is hard, it’s more about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framing human activ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an about tech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Challenge for Smart Card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904040" y="-1182600"/>
            <a:ext cx="11550600" cy="624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1" y="0"/>
                </a:moveTo>
                <a:arcTo wR="10800" hR="10800" stAng="-5409201" swAng="5448043"/>
                <a:lnTo>
                  <a:pt x="10800" y="10800"/>
                </a:lnTo>
                <a:close/>
              </a:path>
              <a:path fill="none" w="21600" h="21600">
                <a:moveTo>
                  <a:pt x="10771" y="0"/>
                </a:moveTo>
                <a:arcTo wR="10800" hR="10800" stAng="-5409201" swAng="5448043"/>
              </a:path>
            </a:pathLst>
          </a:custGeom>
          <a:noFill/>
          <a:ln w="5724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447920" y="1447920"/>
            <a:ext cx="0" cy="3962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5410080"/>
            <a:ext cx="7010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447920" y="2057040"/>
            <a:ext cx="5181480" cy="33526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480" y="121932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ce157"/>
                </a:solidFill>
                <a:latin typeface="Arial Black"/>
              </a:rPr>
              <a:t>R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9788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50360" y="1677960"/>
            <a:ext cx="18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Sec. SoC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94240" y="548640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ce157"/>
                </a:solidFill>
                <a:latin typeface="Arial Black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72440" y="5867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ce157"/>
                </a:solidFill>
                <a:latin typeface="Arial Black"/>
              </a:rPr>
              <a:t>Volu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6080" y="17762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ce157"/>
                </a:solidFill>
                <a:latin typeface="Arial Black"/>
              </a:rPr>
              <a:t>Feat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ystem On a Chip definition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in year 200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n a single chip co-location of sense, compute,control,store,communicate and actuate capabilities”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J. Borel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Smart card IC’s are </a:t>
            </a:r>
            <a:r>
              <a:rPr b="0" i="1" lang="en-GB" sz="2800" spc="-1" strike="noStrike">
                <a:solidFill>
                  <a:srgbClr val="9ce157"/>
                </a:solidFill>
                <a:latin typeface="Arial"/>
              </a:rPr>
              <a:t>Secure System On Chip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ystem On a Chip defini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297180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CD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240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Anten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Keybo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88620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ouds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6680" y="1066680"/>
            <a:ext cx="7391520" cy="4867920"/>
            <a:chOff x="1066680" y="1066680"/>
            <a:chExt cx="7391520" cy="4867920"/>
          </a:xfrm>
        </p:grpSpPr>
        <p:sp>
          <p:nvSpPr>
            <p:cNvPr id="237" name=""/>
            <p:cNvSpPr/>
            <p:nvPr/>
          </p:nvSpPr>
          <p:spPr>
            <a:xfrm>
              <a:off x="3809880" y="1447920"/>
              <a:ext cx="1676520" cy="838080"/>
            </a:xfrm>
            <a:prstGeom prst="rect">
              <a:avLst/>
            </a:prstGeom>
            <a:solidFill>
              <a:srgbClr val="9ce157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44"/>
                  </a:solidFill>
                  <a:latin typeface="Times New Roman"/>
                </a:rPr>
                <a:t>Powe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44"/>
                  </a:solidFill>
                  <a:latin typeface="Times New Roman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9880" y="4495680"/>
              <a:ext cx="1676520" cy="83844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44"/>
                  </a:solidFill>
                  <a:latin typeface="Times New Roman"/>
                </a:rPr>
                <a:t>Memor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3200400"/>
              <a:ext cx="1676520" cy="838080"/>
            </a:xfrm>
            <a:prstGeom prst="rect">
              <a:avLst/>
            </a:prstGeom>
            <a:solidFill>
              <a:srgbClr val="9ce157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44"/>
                  </a:solidFill>
                  <a:latin typeface="Times New Roman"/>
                </a:rPr>
                <a:t>µP, D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3162240"/>
              <a:ext cx="1676160" cy="838440"/>
            </a:xfrm>
            <a:prstGeom prst="rect">
              <a:avLst/>
            </a:prstGeom>
            <a:solidFill>
              <a:srgbClr val="9ce157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44"/>
                  </a:solidFill>
                  <a:latin typeface="Times New Roman"/>
                </a:rPr>
                <a:t>Dat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44"/>
                  </a:solidFill>
                  <a:latin typeface="Times New Roman"/>
                </a:rPr>
                <a:t>Acqui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3048120"/>
              <a:ext cx="1981080" cy="2514600"/>
            </a:xfrm>
            <a:prstGeom prst="rect">
              <a:avLst/>
            </a:prstGeom>
            <a:noFill/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72200" y="3162240"/>
              <a:ext cx="1676520" cy="838440"/>
            </a:xfrm>
            <a:prstGeom prst="rect">
              <a:avLst/>
            </a:prstGeom>
            <a:solidFill>
              <a:srgbClr val="9ce157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44"/>
                  </a:solidFill>
                  <a:latin typeface="Times New Roman"/>
                </a:rPr>
                <a:t>Powe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44"/>
                  </a:solidFill>
                  <a:latin typeface="Times New Roman"/>
                </a:rPr>
                <a:t>Actua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9320" y="4495680"/>
              <a:ext cx="21333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9320" y="1219320"/>
              <a:ext cx="0" cy="3276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2743200"/>
              <a:ext cx="0" cy="1752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19920" y="2743200"/>
              <a:ext cx="0" cy="18288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572000"/>
              <a:ext cx="19810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01000" y="1219320"/>
              <a:ext cx="0" cy="3352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9320" y="1219320"/>
              <a:ext cx="67816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2743200"/>
              <a:ext cx="266724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9680" y="198108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198108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09680" y="19810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19810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67080" y="4038480"/>
              <a:ext cx="76320" cy="457200"/>
            </a:xfrm>
            <a:prstGeom prst="upDownArrow">
              <a:avLst>
                <a:gd name="adj1" fmla="val 50000"/>
                <a:gd name="adj2" fmla="val 11925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2880" y="4038480"/>
              <a:ext cx="76320" cy="457200"/>
            </a:xfrm>
            <a:prstGeom prst="upDownArrow">
              <a:avLst>
                <a:gd name="adj1" fmla="val 50000"/>
                <a:gd name="adj2" fmla="val 11925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91120" y="2286000"/>
              <a:ext cx="75960" cy="914400"/>
            </a:xfrm>
            <a:prstGeom prst="downArrow">
              <a:avLst>
                <a:gd name="adj1" fmla="val 50000"/>
                <a:gd name="adj2" fmla="val 300948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2286000"/>
              <a:ext cx="76320" cy="914400"/>
            </a:xfrm>
            <a:prstGeom prst="downArrow">
              <a:avLst>
                <a:gd name="adj1" fmla="val 50000"/>
                <a:gd name="adj2" fmla="val 299528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9880" y="4925880"/>
              <a:ext cx="2199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ccff"/>
                  </a:solidFill>
                  <a:latin typeface="Times New Roman"/>
                </a:rPr>
                <a:t>Informa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cc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ccff"/>
                  </a:solidFill>
                  <a:latin typeface="Times New Roman"/>
                </a:rPr>
                <a:t>(Super-integration)</a:t>
              </a: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819520" y="4267080"/>
              <a:ext cx="114300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6360" y="5230800"/>
              <a:ext cx="159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cc00"/>
                  </a:solidFill>
                  <a:latin typeface="Times New Roman"/>
                </a:rPr>
                <a:t>Multifun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cc00"/>
                  </a:solidFill>
                  <a:latin typeface="Times New Roman"/>
                </a:rPr>
                <a:t>Peripher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172200" y="4343040"/>
              <a:ext cx="228600" cy="10666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48720" y="3276720"/>
              <a:ext cx="457200" cy="75960"/>
            </a:xfrm>
            <a:prstGeom prst="rightArrow">
              <a:avLst>
                <a:gd name="adj1" fmla="val 50000"/>
                <a:gd name="adj2" fmla="val 150474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48720" y="3886200"/>
              <a:ext cx="457200" cy="7632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66680" y="3429000"/>
              <a:ext cx="457200" cy="7632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66680" y="3733920"/>
              <a:ext cx="457200" cy="75960"/>
            </a:xfrm>
            <a:prstGeom prst="rightArrow">
              <a:avLst>
                <a:gd name="adj1" fmla="val 50000"/>
                <a:gd name="adj2" fmla="val 150474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1120" y="1066680"/>
              <a:ext cx="75960" cy="381240"/>
            </a:xfrm>
            <a:prstGeom prst="downArrow">
              <a:avLst>
                <a:gd name="adj1" fmla="val 50000"/>
                <a:gd name="adj2" fmla="val 125474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05520" y="1066680"/>
              <a:ext cx="75960" cy="381240"/>
            </a:xfrm>
            <a:prstGeom prst="downArrow">
              <a:avLst>
                <a:gd name="adj1" fmla="val 50000"/>
                <a:gd name="adj2" fmla="val 125474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8320" y="1066680"/>
              <a:ext cx="75960" cy="381240"/>
            </a:xfrm>
            <a:prstGeom prst="downArrow">
              <a:avLst>
                <a:gd name="adj1" fmla="val 50000"/>
                <a:gd name="adj2" fmla="val 125474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66680" y="3581280"/>
              <a:ext cx="381240" cy="76320"/>
            </a:xfrm>
            <a:prstGeom prst="leftRightArrow">
              <a:avLst>
                <a:gd name="adj1" fmla="val 50000"/>
                <a:gd name="adj2" fmla="val 99443"/>
              </a:avLst>
            </a:prstGeom>
            <a:solidFill>
              <a:srgbClr val="9ce157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8720" y="3581280"/>
              <a:ext cx="609480" cy="76320"/>
            </a:xfrm>
            <a:prstGeom prst="leftRightArrow">
              <a:avLst>
                <a:gd name="adj1" fmla="val 50000"/>
                <a:gd name="adj2" fmla="val 158977"/>
              </a:avLst>
            </a:prstGeom>
            <a:solidFill>
              <a:srgbClr val="9ce157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381880" y="34290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58128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58128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ver view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trusted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t be integrated in a networked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eveloper requirement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Developers require high density re-programmable NV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igh end products today have more than 300Kbyte R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OM masking painful 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ycle time for prototypes = wee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g free” code more difficult with larg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vanced systems specifications keep mov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apability to download code “over the air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sibility to add new functions (longer card li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roved security (updated protections - safer card li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imited cards invento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ew types inventory may cover product broad ran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grams may be downloaded at test or personal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erformances (speed &amp; low pow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erfect NVM answe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32924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AM speed - DRAM / FLASH den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nite retention – No 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ough but not too much writ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istant to various perturb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ry low pow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information “leakag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standard CMOS process cos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28640" y="5576760"/>
            <a:ext cx="56008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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Osaka"/>
              </a:rPr>
              <a:t>  </a:t>
            </a:r>
            <a:r>
              <a:rPr b="0" i="1" lang="en-US" sz="2500" spc="-1" strike="noStrike">
                <a:solidFill>
                  <a:srgbClr val="ffcc00"/>
                </a:solidFill>
                <a:latin typeface="Arial"/>
                <a:ea typeface="Osaka"/>
              </a:rPr>
              <a:t>Simply does not exist !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Osaka"/>
              </a:rPr>
              <a:t>  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conomical sid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MARTCARD MARKE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1% of semiconduct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justify specific technology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 large density EEPROM are only used in smart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typ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um-High volu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very low pr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 &amp; relia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952880"/>
            <a:ext cx="69040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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n-US" sz="2500" spc="-1" strike="noStrike">
                <a:solidFill>
                  <a:srgbClr val="ffcc00"/>
                </a:solidFill>
                <a:latin typeface="Arial"/>
                <a:ea typeface="Osaka"/>
              </a:rPr>
              <a:t>Must use a standard &amp; proven NVM process (volume on commodity product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echnology sid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15680" y="1376280"/>
            <a:ext cx="7738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ed: FRAM, MRAM, P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sity: FLASH, P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ention: EEPROM &amp; FLASH (not yet proven for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ing: MRAM, P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head: FRAM, M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wer: FRAM (destructive read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ability: FLASH, P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production: EEPROM &amp; FL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cost: no HV in MRAM/FRAM/PCM but materi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compatibil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3124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M, MRAM, PCM can be added on standard C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3124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special high voltage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hancing performanc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S Performance and leakage for low pow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tion of Non-classical C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MOS Integration of new Memory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ting material beyond 300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sk-making &amp;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rdinated design tools &amp; simulators to address chip and assembly issu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Design difficult challeng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(HW&amp; SW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tivity to avoid exponentially increasing design costs. Re-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ference: resource-efficient communication and synchron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-level integration of heterogeneous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tolerance relaxing for cost reductio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SOC test methodologies including for Security.(DFT    DF Secure 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7800" y="5410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onclus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 need strong and consistent R&amp;D programs in technology challenging dom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rchitecture design and sim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miconductor &amp; heterogeneous technologies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mbedded sof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st effective manufactu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urity development and te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bring to the market the necessary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Innovation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at will restore th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Industry Growth and Profitabilit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T Se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April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19440" y="4076640"/>
            <a:ext cx="1839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506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76360" y="270828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 "/>
              </a:rPr>
              <a:t>FROM SMART CARD TO TRUSTED PERSONAL DE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238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 E S E 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Roadmap for European research on Smartcard Technolog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99736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"/>
              </a:rPr>
              <a:t>Challenges for futur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cc00"/>
                </a:solidFill>
                <a:latin typeface="Arial"/>
              </a:rPr>
              <a:t>Smart Card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Albert MÖD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esecke &amp; Devrient Gmb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674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llenge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mart Card Secur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2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98d43"/>
                </a:solidFill>
                <a:latin typeface="Arial"/>
              </a:rPr>
              <a:t>SEC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emiconductors for smar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98d4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hanced subsystem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98d43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d OS / software with high securit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98d43"/>
                </a:solidFill>
                <a:latin typeface="Arial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iquitous security throug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and network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98d43"/>
                </a:solidFill>
                <a:latin typeface="Arial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liable and secure interplay with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epting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98d4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hanced security for the overal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is not a trusted devic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slave to the r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flat 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2637000"/>
            <a:ext cx="3006720" cy="218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219640" y="4797360"/>
            <a:ext cx="23050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410400"/>
            <a:ext cx="883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allenges: Secure Semiconduct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17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Resistance to invasive and non-invasive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elaborate chip-architecture and desig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lue logic (randomization of the layou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bus scrambling (data are scrambl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constant-current mod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amper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tamper-evident and removal-resistant coating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tamper detection mechanisms (sensors &amp; actors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amper response and zeroization circuit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410400"/>
            <a:ext cx="883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allenges: Secure Subsyste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72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ecure card-embedded peripherals / sub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e.g. modules, displays, keyboards, senso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secure packaging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amper-resistant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secure interconnec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ecured interfa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security of internal bus for the various elemen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security of contact or contactless commun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410400"/>
            <a:ext cx="883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allenges: Secure OS / Softwa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Operating Systems with increased secu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secure multi-application 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secure software updates or loading of apple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evelopmen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must be tailored to enhanced security concep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ecure implementation of advanced crypto algorith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evelop evaluation methods for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(e. g. modify CC methodologies for re-configurable architectur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410400"/>
            <a:ext cx="883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allenges: Secure Communicatio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381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mart card communication protocols secured with high-end crypt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high-performance and high-speed encryption and decryption process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secure interoperabil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ecure smart cards integration i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enhanced security of smart cards in the Internet environ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nd-to-end secu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fault-tolerant” protocols (accidental vs. induced faul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167400"/>
            <a:ext cx="88394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allenges: Secure Interaction with Card Accepting Devices (CADs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381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ecure interconnection with ambient intelligent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ecure man-machin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stablish security and create trust for the C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167400"/>
            <a:ext cx="88394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allenges: Enhanced security for the overall smart card syst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381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Mutual interplay of the various security features of the smart card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hardware-software co-desig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operating system/protocol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applications/testability/evalu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ecurity along the complete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from semiconductor to card accepting device and background system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Interdisciplinary collaboration nece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is a trusted devic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Guards your priva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es what you want it to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fuses to do what others w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99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6699"/>
                </a:solidFill>
                <a:latin typeface="Arial"/>
              </a:rPr>
              <a:t>how to realise all three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6699"/>
                </a:solidFill>
                <a:latin typeface="Arial"/>
              </a:rPr>
              <a:t>How to integrate the device into a networked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device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guards your privac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914400"/>
            <a:ext cx="7788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fers a high level of tamper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ultiple levels of def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trusted computing base within the c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loses nothing when 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Zero knowledge 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276720" y="5157720"/>
            <a:ext cx="40860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device does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you want it to d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ool scal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xpen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cts directly with the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Keyboard &amp; disp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rcRect l="0" t="0" r="9154" b="0"/>
          <a:stretch/>
        </p:blipFill>
        <p:spPr>
          <a:xfrm>
            <a:off x="5940360" y="3876840"/>
            <a:ext cx="266220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device refuses to do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others wa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beded in a larger trusted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nre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uts the problem somewhere el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ents pin re-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300720" y="3213000"/>
            <a:ext cx="14605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How to realise all thr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ove that all three are satisfi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easure to what extent they are satisfi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there an underlying the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659640" y="3429000"/>
            <a:ext cx="1981080" cy="280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16:55:33Z</dcterms:created>
  <dc:creator>trutkowski</dc:creator>
  <dc:description/>
  <dc:language>en-US</dc:language>
  <cp:lastModifiedBy>FLORENCE Gras</cp:lastModifiedBy>
  <cp:lastPrinted>2003-01-31T14:01:30Z</cp:lastPrinted>
  <dcterms:modified xsi:type="dcterms:W3CDTF">2003-04-09T10:22:27Z</dcterms:modified>
  <cp:revision>194</cp:revision>
  <dc:subject/>
  <dc:title>ENUM Implementation in the US</dc:title>
</cp:coreProperties>
</file>