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769D-97C2-4294-8724-C7277C5BC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0E77-2698-486A-A4F6-B0E248790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1539-1028-4270-A47B-9C246C931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8B50-4D57-429C-BE4E-10E632D74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03E42-7948-4FA0-97AB-CED2D8AD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611BE-D343-4194-86C5-CE85BAB8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F1771-1DF5-4428-A546-EE528EB1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0DFAA-852A-4D12-BC74-5201AC0F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C77D2-0341-450F-9129-157B529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5EACB-B6F3-4CB1-8AD3-B767E96D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ECADD-6AF8-4D93-85DA-7E716CD2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8536-62A9-437C-B642-172A56D12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F7EA1-B445-49AD-B2F8-851AFC3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87346-CB72-494B-A206-96246BA2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60D97-FB11-4817-B40F-1752895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00774-6AF8-47BE-8360-C244E808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7E45B-AE75-43A6-8059-5B30624D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11DE-B4E4-4989-8F54-6DA5A93FA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E357-EEEC-4184-B5D7-5E5AD22DF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20B5-4B28-42DB-A77F-E6958003D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112E-A4AF-4EB9-A117-A8B22F723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EA63-0011-4850-AD8D-EBFC9E34C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A7EA-2958-4AF3-A8DB-615439C64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A64F-3702-4B4C-A375-DD6F580BF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ET    IST-2001-390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7F83-428D-4344-AFA7-711AB163A5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AD62-DE68-47B0-807E-95B1912609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90920"/>
            <a:ext cx="45720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T Se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April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76360" y="270828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 "/>
              </a:rPr>
              <a:t>FROM SMART CARD TO TRUSTED PERSONAL DE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T : which target(s) 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chnologies for safe management of trusted personal device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real time open 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latforms for secure applet loading &amp; maintenan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multi-tasking 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evaluation and test of HW and SW compon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stributed systems (peer to peer VS client/server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chnologies for System on Chip / on Card (smart object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Non Volatile Memories  =  Fe RAM, Flash, MRAM,…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memory management / partitioning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assembly / embedding techniq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ower supply and managem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Chip re-configurabil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rket requirements for smart cards &amp; trusted personal devices: Strengthening current posi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lecom 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w ecosystem featuring extended data rates (UMTS), increased trust requirements and strong interface with Internet V2 for addressing  added value services (locate, instantiate, oper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gement of complex operated 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stomer Relationship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 identification  and profi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tection of personal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fe and dynamic management of applications (O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rong authentication and consent management into heterogeneous communication systems (GSM, W-L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hanced man-machine interface (contact-les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5342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rket requirements for smart cards &amp; trusted personal devices: strengthening current positions (cont’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Financial services: in the context of the worldwide migration of bank cards towards chip embedding, requirements for enhanced security and multi-application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operable multi-application plat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authentication mechanisms (biome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mmunication services for e-transactions (TCPIP, USB, MMC, XML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tributed applications model and evolution towards open infrastructures (intern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303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rket requirements for smart cards &amp;  trusted personal devices: featuring new opportunit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56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lobal digital ID and data management into heterogeneous network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omplex algorithm matching (PK, biometry,…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Full speed online encryption (DRM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Repository services (unified way to access any type of da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)     Generic technology driver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JavaCard standard (V2.2, V3.0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Improved security level (EAL 5+, 6, 7, over 7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ard interface with external networks / systems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dynamic memory manag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low power compliance (GSM/3G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creased computing pow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on-board multi-browser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eractive &amp; secure links within ambient intelligent environmen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T : from smart card to trusted personal devic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998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mart card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 piece of plastic, with a standardized  body format, embedding an electronic system packaged into a µmodule, made of either a single memory chip or a microcontroller one (ROM + RAM + EEPROM), connected to a card accepting device which provides interface to the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998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rusted personal devic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 small and portable object, which can take the form of a standard plastic card, and which is featuring several of the main following characteristic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- increased autonomy: no master/slave relationship with r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- user-friendly interface, with holder’s control on de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- direct interactivity with e-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- extended data processing cap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- huge memory capacity (up to Gigaby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- fully networked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- extended embedded components (screen, keyboard, biometric sensor,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- holding, protecting and managing owner’s specific data (identity/credentia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74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clusion / Introduction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T i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fantastic community of experts experienced in strategic domains of the information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unprecedented forum for addressing technology requirements for new trusted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tool for continuously supporting the dialogue between players of the e-society, on both supply and demand s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rong commitment of the smart card industry and academic players to migrate from the smart card generation to the “trusted personal device” 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beginning, not at all an en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d now, let us address the concrete outcome of the work performed at this stage in Reset 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nk you for listening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484360" y="486900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T Web site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ercim.org/re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0"/>
            <a:ext cx="5029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Reset public Se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russels  03 / 04 /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674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T Semina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137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09h30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lcome address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tz Marti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09h30 09h45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ntroduction to Reset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livier Trébuc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09h45 10h45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set WGs deliverables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set WG lea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h45 11h00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ffee bre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1h00 12h45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hallenges for technology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ieter Hart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Ulrich Bük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Jean-Paul Thomass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bert Mö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2h45 13h00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essons from Reset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runo Le Dante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&amp;A s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3h00 14h00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nch bre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4h00 15h45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iscussion (other roadmaps and audience)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tz Martin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5h45 16h00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clusions from discus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6h00 16h15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P6 orientations on trust &amp; security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érard Ga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6h15 16h30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 IP for trusted personal devices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runo Cucinel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6h30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rap-up and seminar clo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242064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 E S E T :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a technology roadmap for smart cards &amp; trusted personal devic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vier TREBUCQ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T Technology advi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0"/>
            <a:ext cx="5029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SET public se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russels,  03 / 04 /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10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T : WHAT is it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irst ever made attempt of both smart card industry and academic stakeholders to assess R&amp;D priorities for technologies and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concerted approach on technology exploitation, implementation scenarios, market requirements and application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5 experts  involved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liers of SC systems 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search &amp; technology institu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ards and accepting devices issuing organis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10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T : WHY is it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strong backgrou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smart card is now acknowledged worldwide as a major component of trust &amp; security systems, within the global information and communication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major requirement for enhancing business: t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vercome identified technology bottlenecks which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vent smart card to consolidate its current position and to address new application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tremendous opportun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to focus on common R&amp;D priorities at an early stage of the FP6, for consolidating and sharing expertise of European industry and academic play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key challenge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achieve the successful migration from current generation of smart cards to innovative trusted personal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10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T : WHY is it (cont’d)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pecific complexity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mart card is the resulting combination of a wide range of HW and SW technologies, with related management features, which require being specified, developed and integrated through a quite interactive process, especially for designing secure and tamper resista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technology supported by a large community of develope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rough evolution towards open platforms and systems, an increasing number of people have access to high level language and programming tools, for enriching the scope of middleware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10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ET : WHY is it (cont’d)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never ending arms race between hackers and security provider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urity, which is by nature the first asset of smart card systems, is a continuous challenge for information systems providers, especially when transactions such as payment or electronic signature are perfor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 activity increasingly mixing technology, marketing and legal requirem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 address detailed specifications of issuing organisations, suppliers must comply to quite extended sets of requirements, which often refer to legal frameworks, as for identification, protection of personal data, trusted e-commerce procedures,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T : which target(s) 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71280" y="1267920"/>
            <a:ext cx="75610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unication and networ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s and S/W platfor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rt card accepting devices, interfaces and biome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d embedded peripherals, subsystems and micro-systems pack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gh-end cryptography, tamper resistant and security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cro-electronics and system on c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RESET : which target(s) 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chnologies for Security and Trus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secure chip desig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hysical/logical attack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secure SW and protocols and high-end cryptograp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Security certific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chnologies for improved integration of trusted personal devices in networked systems &amp; environment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High speed communication protoco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middle-ware compon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multi-interfaces protocols (USB, BT, W-LAN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high level programming languages &amp; too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Networked managed objec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16:55:33Z</dcterms:created>
  <dc:creator>trutkowski</dc:creator>
  <dc:description/>
  <dc:language>en-US</dc:language>
  <cp:lastModifiedBy>FLORENCE Gras</cp:lastModifiedBy>
  <cp:lastPrinted>2003-01-31T14:01:30Z</cp:lastPrinted>
  <dcterms:modified xsi:type="dcterms:W3CDTF">2003-04-09T10:11:15Z</dcterms:modified>
  <cp:revision>192</cp:revision>
  <dc:subject/>
  <dc:title>ENUM Implementation in the US</dc:title>
</cp:coreProperties>
</file>