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whoosh.wav" ContentType="audio/x-wav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9DA3-DC7F-41C4-9434-B34CFC916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35B8-72CE-49E2-8299-14BD2FA09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3C72-C7D5-4FB2-BB43-69BA87C55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352F-0EFB-4720-AA38-65E7E8C3B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5139A-BA45-4EEC-9E04-B337D253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84D8D-862C-4565-90AE-002107F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4BB6F-39D3-403B-99C8-D318946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4E15-9D61-498E-87D7-D248EE53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3DDEA-F3B5-4096-88BB-8E8887B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861A-C009-4B16-B0FF-4F5CFFD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94838-107C-4885-B279-8ACFF02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8235-31E2-4194-BBF2-4EFF7FD2C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73BF1-F57A-408C-B1AA-81CD90C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9B25D-117E-481B-9E7A-FEF76EF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5FE9F-756F-4523-B817-FB588B2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2B316-D84B-4E1B-9793-DB7CC6EC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6E03D-AA1C-4873-BE82-DA067E86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D0B4-8BF4-4D56-90D5-9C3AE3DAF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B0F7-3C20-41FF-A073-43993FE84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0B1C-837D-4271-98B0-98E39DA30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82BC-6957-460D-A3CA-0DFBA39D6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22C1-D626-463F-B293-4C0ECAEB1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F104-33FF-4A0C-803A-F7D701F7A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0825-E536-4AC6-8E56-350D23C2A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T    IST-2001-390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CD1-5A82-4810-A989-BAFBA2DF24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06A-4CA3-4B70-AB16-2549C7D5D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4572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T Seminar - 3 April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2708280"/>
            <a:ext cx="6191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Working Group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valuation of Technology and Marketing Requirements (cont’d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ystems Integration and Card Applica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mart card middleware (adaptability to the end user terminal and to the netw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eed to improve management (card , applic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eed to improve project management tools (distributed development, interaction between development and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and Technology Development Prioritie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51000"/>
            <a:ext cx="79250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rating Systems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hance execution environment (multi tasking/multi threading, Real time OS, et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gh speed communication protocol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 systems management/memory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en source OS (SC as an ordinary 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languages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hance the expressiveness of the programming languages (full java), investigate alternative languages as C#, Eiffel, etc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stigate Domain Specific and Scripting languages : characteristics of the application domain as language concepts, constructs and not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SzPct val="1119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Issues : variety of SC hardware &amp; SC limited resourc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06200"/>
            <a:ext cx="8077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and Technology Development Priorities (cont’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tools : improve security and certific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 modelling and specification languages that are sound and expressive but remain usable in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 methods for verification and test (autom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 adequate interface with verification tools (theorem provers and Model check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 adequate framework for validation and cer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83059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and Technology Development Priorities (cont’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s Integ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middleware and integration tools from software engineering to special characteristics of S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anagement of SC and their content with model(s) of card managemen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8153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and Technology Development Priorities (cont’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87160"/>
            <a:ext cx="8458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 ter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set of tools for the development of application in a global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middleware technologies (RMI, Corba, .NET remo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standard mechanisms for communication between smart cards and terminals (PDA,mobile phone, set-top boxe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rge  the scope of Mobile Information Devices Profiles (MIDP) to Smart C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ter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application models to take into account SC constraints, security and the on card part of the 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models related to management of the SCs (entity definition, functionality, multi application fea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technologies : XML,U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-card and off card framework : scalability, dynamic management of card framework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248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çois BR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ement des Cartes Banc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14400" y="23623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 "/>
              </a:rPr>
              <a:t>WG 3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Arial "/>
              </a:rPr>
              <a:t>Smart card accepting devices, interfaces and bi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tributors </a:t>
            </a: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to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the grou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NR Pis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fano BISTAREL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fano FRAS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iversity of Twe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 Pieter HAR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mpl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livier TREBUC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DS Security Platfor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rieh M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vi WACHTFO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hilip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aus SICK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 Fraunhofer Institut Sichere Telekooper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rk SCHEUERMA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n Microsyste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duard de J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rtes Banc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ançois BR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uno MICH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lliam VANOBBERG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Group met once in Paris, Dec 6</a:t>
            </a:r>
            <a:r>
              <a:rPr b="0" i="1" lang="fr-FR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cure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cure readers with key 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iometric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rm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iniaturization &amp; cost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Technology trend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Market requireme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ove towards multi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8584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981080"/>
          <a:ext cx="8381880" cy="380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81080"/>
                    <a:ext cx="83818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Market requirements (cont'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curity is a transversal issue and affects every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ser friendliness is an important key of success for these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50920" y="4648320"/>
            <a:ext cx="8642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David Sim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é des Sciences et Technologies de L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76360" y="2997360"/>
            <a:ext cx="619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"/>
              </a:rPr>
              <a:t>WG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"/>
              </a:rPr>
              <a:t>Communication &amp; Net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Research orientatio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nhancing user's trust in card and CAD is necessary to develop new smard car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=&gt; TRUST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Transaction data integ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Secured user ident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Scenarios for Network/CAD/card connection mod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71720" y="1285920"/>
            <a:ext cx="6858000" cy="1142640"/>
            <a:chOff x="1071720" y="1285920"/>
            <a:chExt cx="6858000" cy="1142640"/>
          </a:xfrm>
        </p:grpSpPr>
        <p:sp>
          <p:nvSpPr>
            <p:cNvPr id="197" name=""/>
            <p:cNvSpPr/>
            <p:nvPr/>
          </p:nvSpPr>
          <p:spPr>
            <a:xfrm>
              <a:off x="2443320" y="1819080"/>
              <a:ext cx="144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1720" y="1285920"/>
              <a:ext cx="1371600" cy="914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Networ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91240" y="1285920"/>
              <a:ext cx="13716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58120" y="1285920"/>
              <a:ext cx="1371600" cy="914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mart c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62840" y="181908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0760" y="1493640"/>
              <a:ext cx="10288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86240" y="18572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wired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6520" y="184788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link with cont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066680" y="3809880"/>
            <a:ext cx="6858000" cy="1190520"/>
            <a:chOff x="1066680" y="3809880"/>
            <a:chExt cx="6858000" cy="1190520"/>
          </a:xfrm>
        </p:grpSpPr>
        <p:sp>
          <p:nvSpPr>
            <p:cNvPr id="206" name=""/>
            <p:cNvSpPr/>
            <p:nvPr/>
          </p:nvSpPr>
          <p:spPr>
            <a:xfrm>
              <a:off x="1066680" y="3809880"/>
              <a:ext cx="1371600" cy="914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Networ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3809880"/>
              <a:ext cx="13716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3809880"/>
              <a:ext cx="1371600" cy="914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mart c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8280" y="4267080"/>
              <a:ext cx="144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4038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4680" y="43340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wired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2280" y="44197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contactless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243400" y="3952440"/>
              <a:ext cx="332640" cy="591480"/>
              <a:chOff x="5243400" y="3952440"/>
              <a:chExt cx="332640" cy="59148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5329800" y="3952440"/>
                <a:ext cx="246240" cy="591480"/>
                <a:chOff x="5329800" y="3952440"/>
                <a:chExt cx="246240" cy="591480"/>
              </a:xfrm>
            </p:grpSpPr>
            <p:sp>
              <p:nvSpPr>
                <p:cNvPr id="215" name=""/>
                <p:cNvSpPr/>
                <p:nvPr/>
              </p:nvSpPr>
              <p:spPr>
                <a:xfrm rot="294600">
                  <a:off x="5337360" y="3961800"/>
                  <a:ext cx="22716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94600">
                  <a:off x="5339520" y="4152960"/>
                  <a:ext cx="22860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294600">
                  <a:off x="5338080" y="4344120"/>
                  <a:ext cx="22716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5243400" y="3957480"/>
                <a:ext cx="11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68960" y="4525920"/>
                <a:ext cx="112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216120" y="3943080"/>
              <a:ext cx="331920" cy="591480"/>
              <a:chOff x="6216120" y="3943080"/>
              <a:chExt cx="331920" cy="5914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216120" y="3943080"/>
                <a:ext cx="245880" cy="591480"/>
                <a:chOff x="6216120" y="3943080"/>
                <a:chExt cx="245880" cy="591480"/>
              </a:xfrm>
            </p:grpSpPr>
            <p:sp>
              <p:nvSpPr>
                <p:cNvPr id="222" name=""/>
                <p:cNvSpPr/>
                <p:nvPr/>
              </p:nvSpPr>
              <p:spPr>
                <a:xfrm flipH="1" rot="21305400">
                  <a:off x="6226920" y="3952080"/>
                  <a:ext cx="22680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21305400">
                  <a:off x="6223320" y="4143600"/>
                  <a:ext cx="22824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21305400">
                  <a:off x="6226560" y="4334400"/>
                  <a:ext cx="22680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 flipH="1">
                <a:off x="6437160" y="3948120"/>
                <a:ext cx="11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0520" y="4516560"/>
                <a:ext cx="112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1066680" y="2533680"/>
            <a:ext cx="6858000" cy="1190160"/>
            <a:chOff x="1066680" y="2533680"/>
            <a:chExt cx="6858000" cy="1190160"/>
          </a:xfrm>
        </p:grpSpPr>
        <p:sp>
          <p:nvSpPr>
            <p:cNvPr id="228" name=""/>
            <p:cNvSpPr/>
            <p:nvPr/>
          </p:nvSpPr>
          <p:spPr>
            <a:xfrm>
              <a:off x="1066680" y="2533680"/>
              <a:ext cx="1371600" cy="914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Networ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2533680"/>
              <a:ext cx="13716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2533680"/>
              <a:ext cx="1371600" cy="914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mart c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306684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14800" y="2762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14600" y="31431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wireless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81480" y="314316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link with cont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096360" y="2679480"/>
              <a:ext cx="408240" cy="426240"/>
              <a:chOff x="3096360" y="2679480"/>
              <a:chExt cx="408240" cy="4262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117240" y="2679480"/>
                <a:ext cx="387360" cy="426240"/>
                <a:chOff x="3117240" y="2679480"/>
                <a:chExt cx="387360" cy="42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117240" y="2690640"/>
                  <a:ext cx="387360" cy="41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3117240" y="2679120"/>
                  <a:ext cx="387360" cy="41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096360" y="2812320"/>
                <a:ext cx="179280" cy="160920"/>
                <a:chOff x="3096360" y="2812320"/>
                <a:chExt cx="179280" cy="160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096360" y="2816640"/>
                  <a:ext cx="179280" cy="15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3096360" y="2811960"/>
                  <a:ext cx="179280" cy="15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30920" y="2754000"/>
                <a:ext cx="241920" cy="285120"/>
                <a:chOff x="3130920" y="2754000"/>
                <a:chExt cx="241920" cy="285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130920" y="2761560"/>
                  <a:ext cx="241920" cy="27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3130920" y="2753640"/>
                  <a:ext cx="241920" cy="27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2719440" y="2684520"/>
              <a:ext cx="432720" cy="420840"/>
              <a:chOff x="2719440" y="2684520"/>
              <a:chExt cx="432720" cy="420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2719440" y="2684520"/>
                <a:ext cx="410400" cy="420840"/>
                <a:chOff x="2719440" y="2684520"/>
                <a:chExt cx="410400" cy="4208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>
                  <a:off x="2719440" y="2695320"/>
                  <a:ext cx="410400" cy="41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>
                  <a:off x="2719440" y="2684160"/>
                  <a:ext cx="410400" cy="41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62080" y="2815560"/>
                <a:ext cx="190080" cy="158760"/>
                <a:chOff x="2962080" y="2815560"/>
                <a:chExt cx="190080" cy="15876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2962080" y="2819880"/>
                  <a:ext cx="190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962080" y="2815200"/>
                  <a:ext cx="190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858760" y="2757960"/>
                <a:ext cx="256680" cy="282240"/>
                <a:chOff x="2858760" y="2757960"/>
                <a:chExt cx="256680" cy="28224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2858400" y="2765520"/>
                  <a:ext cx="256680" cy="27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>
                  <a:off x="2858400" y="2757600"/>
                  <a:ext cx="256680" cy="27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5" name=""/>
          <p:cNvGrpSpPr/>
          <p:nvPr/>
        </p:nvGrpSpPr>
        <p:grpSpPr>
          <a:xfrm>
            <a:off x="1066680" y="5029200"/>
            <a:ext cx="6858000" cy="1218960"/>
            <a:chOff x="1066680" y="5029200"/>
            <a:chExt cx="6858000" cy="1218960"/>
          </a:xfrm>
        </p:grpSpPr>
        <p:sp>
          <p:nvSpPr>
            <p:cNvPr id="256" name=""/>
            <p:cNvSpPr/>
            <p:nvPr/>
          </p:nvSpPr>
          <p:spPr>
            <a:xfrm>
              <a:off x="1066680" y="5029200"/>
              <a:ext cx="1371600" cy="914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Networ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86200" y="5029200"/>
              <a:ext cx="13716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3080" y="5029200"/>
              <a:ext cx="1371600" cy="914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mart c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8480" y="5257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57675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wireless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566748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contactless 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211440" y="5157360"/>
              <a:ext cx="331920" cy="591480"/>
              <a:chOff x="6211440" y="5157360"/>
              <a:chExt cx="331920" cy="5914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211440" y="5157360"/>
                <a:ext cx="245880" cy="591480"/>
                <a:chOff x="6211440" y="5157360"/>
                <a:chExt cx="245880" cy="5914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rot="21305400">
                  <a:off x="6222240" y="5166360"/>
                  <a:ext cx="22680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1305400">
                  <a:off x="6218640" y="5357880"/>
                  <a:ext cx="22824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rot="21305400">
                  <a:off x="6221880" y="5548680"/>
                  <a:ext cx="226800" cy="19044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 flipH="1">
                <a:off x="6432480" y="5162400"/>
                <a:ext cx="11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405840" y="5730840"/>
                <a:ext cx="112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248440" y="5162040"/>
              <a:ext cx="331920" cy="590760"/>
              <a:chOff x="5248440" y="5162040"/>
              <a:chExt cx="331920" cy="5907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334480" y="5162040"/>
                <a:ext cx="245880" cy="590760"/>
                <a:chOff x="5334480" y="5162040"/>
                <a:chExt cx="245880" cy="590760"/>
              </a:xfrm>
            </p:grpSpPr>
            <p:sp>
              <p:nvSpPr>
                <p:cNvPr id="271" name=""/>
                <p:cNvSpPr/>
                <p:nvPr/>
              </p:nvSpPr>
              <p:spPr>
                <a:xfrm rot="294600">
                  <a:off x="5342040" y="5171040"/>
                  <a:ext cx="226800" cy="19008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94600">
                  <a:off x="5344200" y="5362200"/>
                  <a:ext cx="228240" cy="19008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94600">
                  <a:off x="5342400" y="5553000"/>
                  <a:ext cx="226800" cy="190080"/>
                </a:xfrm>
                <a:custGeom>
                  <a:avLst/>
                  <a:gdLst/>
                  <a:ahLst/>
                  <a:rect l="l" t="t" r="r" b="b"/>
                  <a:pathLst>
                    <a:path w="344" h="432">
                      <a:moveTo>
                        <a:pt x="0" y="0"/>
                      </a:moveTo>
                      <a:cubicBezTo>
                        <a:pt x="164" y="60"/>
                        <a:pt x="328" y="120"/>
                        <a:pt x="336" y="192"/>
                      </a:cubicBezTo>
                      <a:cubicBezTo>
                        <a:pt x="344" y="264"/>
                        <a:pt x="96" y="39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248440" y="5167440"/>
                <a:ext cx="11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73640" y="5735520"/>
                <a:ext cx="112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106080" y="5232240"/>
              <a:ext cx="407880" cy="426240"/>
              <a:chOff x="3106080" y="5232240"/>
              <a:chExt cx="407880" cy="42624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3127320" y="5232240"/>
                <a:ext cx="386640" cy="426240"/>
                <a:chOff x="3127320" y="5232240"/>
                <a:chExt cx="386640" cy="4262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127320" y="5243400"/>
                  <a:ext cx="386640" cy="41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3127320" y="5231880"/>
                  <a:ext cx="386640" cy="41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106080" y="5365080"/>
                <a:ext cx="179280" cy="160920"/>
                <a:chOff x="3106080" y="5365080"/>
                <a:chExt cx="179280" cy="160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106080" y="5369400"/>
                  <a:ext cx="179280" cy="15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3106080" y="5364720"/>
                  <a:ext cx="179280" cy="15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140640" y="5306760"/>
                <a:ext cx="241920" cy="285120"/>
                <a:chOff x="3140640" y="5306760"/>
                <a:chExt cx="241920" cy="285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140640" y="5314320"/>
                  <a:ext cx="241920" cy="27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3140640" y="5306400"/>
                  <a:ext cx="241920" cy="27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2729520" y="5237280"/>
              <a:ext cx="432720" cy="421200"/>
              <a:chOff x="2729520" y="5237280"/>
              <a:chExt cx="432720" cy="42120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729520" y="5237280"/>
                <a:ext cx="410400" cy="421200"/>
                <a:chOff x="2729520" y="5237280"/>
                <a:chExt cx="410400" cy="421200"/>
              </a:xfrm>
            </p:grpSpPr>
            <p:sp>
              <p:nvSpPr>
                <p:cNvPr id="288" name=""/>
                <p:cNvSpPr/>
                <p:nvPr/>
              </p:nvSpPr>
              <p:spPr>
                <a:xfrm flipH="1">
                  <a:off x="2729520" y="5248440"/>
                  <a:ext cx="410400" cy="41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>
                  <a:off x="2729520" y="5236920"/>
                  <a:ext cx="410400" cy="41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972160" y="5368320"/>
                <a:ext cx="190080" cy="158760"/>
                <a:chOff x="2972160" y="5368320"/>
                <a:chExt cx="190080" cy="158760"/>
              </a:xfrm>
            </p:grpSpPr>
            <p:sp>
              <p:nvSpPr>
                <p:cNvPr id="291" name=""/>
                <p:cNvSpPr/>
                <p:nvPr/>
              </p:nvSpPr>
              <p:spPr>
                <a:xfrm flipH="1">
                  <a:off x="2972160" y="5372640"/>
                  <a:ext cx="190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>
                  <a:off x="2972160" y="5367960"/>
                  <a:ext cx="190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868840" y="5311080"/>
                <a:ext cx="256680" cy="281520"/>
                <a:chOff x="2868840" y="5311080"/>
                <a:chExt cx="256680" cy="2815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2868480" y="5318640"/>
                  <a:ext cx="256680" cy="27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2868480" y="5310720"/>
                  <a:ext cx="256680" cy="27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Thévenot Schlumber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52480" y="2971800"/>
            <a:ext cx="56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"/>
              </a:rPr>
              <a:t>WG4 Card embedded peripherals,  sub-systems and micro-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tributors </a:t>
            </a: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to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the grou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EMPLU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enri BOC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hilippe PAT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ivier TREBUC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G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ies JANC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HILIP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ristian ZE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AGEM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rc MORAZZ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CHLUMBERG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noit THEVE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08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arket Require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175248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ermanent cont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User conven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fe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8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echnology orient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365040" y="154764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: system on &amp; off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079640" y="2239920"/>
            <a:ext cx="6127560" cy="2133720"/>
            <a:chOff x="1079640" y="2239920"/>
            <a:chExt cx="6127560" cy="2133720"/>
          </a:xfrm>
        </p:grpSpPr>
        <p:sp>
          <p:nvSpPr>
            <p:cNvPr id="307" name=""/>
            <p:cNvSpPr/>
            <p:nvPr/>
          </p:nvSpPr>
          <p:spPr>
            <a:xfrm>
              <a:off x="3111480" y="2239920"/>
              <a:ext cx="4095720" cy="21337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76520" y="2657520"/>
              <a:ext cx="2548080" cy="1390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79640" y="2239920"/>
              <a:ext cx="649080" cy="2133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76600" y="3135240"/>
              <a:ext cx="649440" cy="565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1680" y="2744640"/>
              <a:ext cx="814320" cy="520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eripheral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6040" y="3460680"/>
              <a:ext cx="2581200" cy="180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5360" y="3265560"/>
              <a:ext cx="199800" cy="1746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75880" y="34401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nal b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79480" y="270036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art ca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1728360" y="3460320"/>
              <a:ext cx="1847880" cy="180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14880" y="223992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ersonal slave rea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71560" y="3511440"/>
              <a:ext cx="131004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ternal bu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e or wirel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08560" y="2744640"/>
              <a:ext cx="814680" cy="520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eripheral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02240" y="3265560"/>
              <a:ext cx="200160" cy="1746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71520" y="4610160"/>
            <a:ext cx="85773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t : standard for architecture &amp; periph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fetime : standard for cards dur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295280" y="1676520"/>
            <a:ext cx="7182000" cy="4332240"/>
            <a:chOff x="1295280" y="1676520"/>
            <a:chExt cx="7182000" cy="4332240"/>
          </a:xfrm>
        </p:grpSpPr>
        <p:sp>
          <p:nvSpPr>
            <p:cNvPr id="323" name=""/>
            <p:cNvSpPr/>
            <p:nvPr/>
          </p:nvSpPr>
          <p:spPr>
            <a:xfrm>
              <a:off x="1295280" y="1676520"/>
              <a:ext cx="7182000" cy="4332240"/>
            </a:xfrm>
            <a:prstGeom prst="roundRect">
              <a:avLst>
                <a:gd name="adj" fmla="val 6639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04800" y="3019320"/>
              <a:ext cx="906480" cy="157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08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uidelines for Card archite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3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65440" y="1982880"/>
            <a:ext cx="69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05120" y="4083120"/>
            <a:ext cx="1671480" cy="1177200"/>
            <a:chOff x="1905120" y="4083120"/>
            <a:chExt cx="1671480" cy="1177200"/>
          </a:xfrm>
        </p:grpSpPr>
        <p:sp>
          <p:nvSpPr>
            <p:cNvPr id="329" name=""/>
            <p:cNvSpPr/>
            <p:nvPr/>
          </p:nvSpPr>
          <p:spPr>
            <a:xfrm>
              <a:off x="1905120" y="4800600"/>
              <a:ext cx="1671480" cy="45972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PO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08240" y="4083120"/>
              <a:ext cx="15840" cy="717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457440" y="2754360"/>
            <a:ext cx="1878120" cy="577800"/>
            <a:chOff x="3457440" y="2754360"/>
            <a:chExt cx="1878120" cy="577800"/>
          </a:xfrm>
        </p:grpSpPr>
        <p:sp>
          <p:nvSpPr>
            <p:cNvPr id="332" name=""/>
            <p:cNvSpPr/>
            <p:nvPr/>
          </p:nvSpPr>
          <p:spPr>
            <a:xfrm>
              <a:off x="4711680" y="2849400"/>
              <a:ext cx="487440" cy="48276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4560" y="2847960"/>
              <a:ext cx="487440" cy="48276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13280" y="2754360"/>
              <a:ext cx="13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44"/>
                  </a:solidFill>
                  <a:latin typeface="Times New Roman"/>
                </a:rPr>
                <a:t>KNO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4572000" y="3124080"/>
              <a:ext cx="1396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457440" y="3124080"/>
              <a:ext cx="627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57440" y="3124080"/>
              <a:ext cx="0" cy="206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733920" y="2030400"/>
            <a:ext cx="4462200" cy="1646280"/>
            <a:chOff x="3733920" y="2030400"/>
            <a:chExt cx="4462200" cy="1646280"/>
          </a:xfrm>
        </p:grpSpPr>
        <p:sp>
          <p:nvSpPr>
            <p:cNvPr id="339" name=""/>
            <p:cNvSpPr/>
            <p:nvPr/>
          </p:nvSpPr>
          <p:spPr>
            <a:xfrm>
              <a:off x="3733920" y="2030400"/>
              <a:ext cx="4462200" cy="62064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DISPL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07040" y="2676600"/>
              <a:ext cx="0" cy="1000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498920" y="3676680"/>
            <a:ext cx="1467000" cy="1634040"/>
            <a:chOff x="4498920" y="3676680"/>
            <a:chExt cx="1467000" cy="1634040"/>
          </a:xfrm>
        </p:grpSpPr>
        <p:sp>
          <p:nvSpPr>
            <p:cNvPr id="342" name=""/>
            <p:cNvSpPr/>
            <p:nvPr/>
          </p:nvSpPr>
          <p:spPr>
            <a:xfrm>
              <a:off x="4498920" y="4546440"/>
              <a:ext cx="1467000" cy="76428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Times New Roman"/>
                </a:rPr>
                <a:t>MASS MEMOR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99120" y="3676680"/>
              <a:ext cx="0" cy="8953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105600" y="3676680"/>
            <a:ext cx="1812960" cy="1634040"/>
            <a:chOff x="6105600" y="3676680"/>
            <a:chExt cx="1812960" cy="1634040"/>
          </a:xfrm>
        </p:grpSpPr>
        <p:sp>
          <p:nvSpPr>
            <p:cNvPr id="345" name=""/>
            <p:cNvSpPr/>
            <p:nvPr/>
          </p:nvSpPr>
          <p:spPr>
            <a:xfrm>
              <a:off x="6105600" y="4546440"/>
              <a:ext cx="1812960" cy="764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Times New Roman"/>
                </a:rPr>
                <a:t>BIOMETRIC SENSO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3676680"/>
              <a:ext cx="0" cy="8953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411280" y="3262320"/>
            <a:ext cx="5508720" cy="893880"/>
            <a:chOff x="2411280" y="3262320"/>
            <a:chExt cx="5508720" cy="893880"/>
          </a:xfrm>
        </p:grpSpPr>
        <p:grpSp>
          <p:nvGrpSpPr>
            <p:cNvPr id="348" name=""/>
            <p:cNvGrpSpPr/>
            <p:nvPr/>
          </p:nvGrpSpPr>
          <p:grpSpPr>
            <a:xfrm>
              <a:off x="2411280" y="3330720"/>
              <a:ext cx="5508720" cy="825480"/>
              <a:chOff x="2411280" y="3330720"/>
              <a:chExt cx="5508720" cy="825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411280" y="3675240"/>
                <a:ext cx="2095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20800" y="3330720"/>
                <a:ext cx="1324080" cy="8254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Times New Roman"/>
                  </a:rPr>
                  <a:t>Interface ch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44880" y="3676680"/>
                <a:ext cx="397512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432320" y="3262320"/>
              <a:ext cx="258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0066"/>
                  </a:solidFill>
                  <a:latin typeface="Times New Roman"/>
                </a:rPr>
                <a:t>INTERNAL    BU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365120" y="1744560"/>
            <a:ext cx="7042320" cy="4206960"/>
            <a:chOff x="1365120" y="1744560"/>
            <a:chExt cx="7042320" cy="4206960"/>
          </a:xfrm>
        </p:grpSpPr>
        <p:sp>
          <p:nvSpPr>
            <p:cNvPr id="354" name=""/>
            <p:cNvSpPr/>
            <p:nvPr/>
          </p:nvSpPr>
          <p:spPr>
            <a:xfrm flipH="1">
              <a:off x="3804840" y="4162320"/>
              <a:ext cx="4680" cy="1789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74680" y="4162320"/>
              <a:ext cx="11160" cy="1719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365120" y="1744560"/>
              <a:ext cx="7042320" cy="4206960"/>
              <a:chOff x="1365120" y="1744560"/>
              <a:chExt cx="7042320" cy="4206960"/>
            </a:xfrm>
          </p:grpSpPr>
          <p:sp>
            <p:nvSpPr>
              <p:cNvPr id="357" name=""/>
              <p:cNvSpPr/>
              <p:nvPr/>
            </p:nvSpPr>
            <p:spPr>
              <a:xfrm>
                <a:off x="1365120" y="1744560"/>
                <a:ext cx="7042320" cy="4206960"/>
              </a:xfrm>
              <a:prstGeom prst="roundRect">
                <a:avLst>
                  <a:gd name="adj" fmla="val 6667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434960" y="1814400"/>
                <a:ext cx="6902640" cy="4114080"/>
                <a:chOff x="1434960" y="1814400"/>
                <a:chExt cx="6902640" cy="41140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434960" y="1814400"/>
                  <a:ext cx="6902640" cy="4067280"/>
                </a:xfrm>
                <a:prstGeom prst="roundRect">
                  <a:avLst>
                    <a:gd name="adj" fmla="val 6667"/>
                  </a:avLst>
                </a:pr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22400" y="5468760"/>
                  <a:ext cx="167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cc00"/>
                      </a:solidFill>
                      <a:latin typeface="Times New Roman"/>
                    </a:rPr>
                    <a:t>ANTENN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1" name=""/>
          <p:cNvGrpSpPr/>
          <p:nvPr/>
        </p:nvGrpSpPr>
        <p:grpSpPr>
          <a:xfrm>
            <a:off x="228600" y="3173400"/>
            <a:ext cx="1276200" cy="1015920"/>
            <a:chOff x="228600" y="3173400"/>
            <a:chExt cx="1276200" cy="1015920"/>
          </a:xfrm>
        </p:grpSpPr>
        <p:sp>
          <p:nvSpPr>
            <p:cNvPr id="362" name=""/>
            <p:cNvSpPr/>
            <p:nvPr/>
          </p:nvSpPr>
          <p:spPr>
            <a:xfrm>
              <a:off x="228600" y="3689280"/>
              <a:ext cx="12762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8600" y="317340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66"/>
                  </a:solidFill>
                  <a:latin typeface="Times New Roman"/>
                </a:rPr>
                <a:t>EX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66"/>
                  </a:solidFill>
                  <a:latin typeface="Times New Roman"/>
                </a:rPr>
                <a:t>B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873080" cy="934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08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velopment prior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17524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Card architectur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n, flexible, reliable, low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isplays, batteries and keyboa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ackaging and interconnection technologies (very thin chips, flexible interconnectio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ufacturing equ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ended / improved set of periph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284472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"/>
              </a:rPr>
              <a:t>WG5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“High-end cryptography, tamper-proof and security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Albert MÖ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esecke &amp; Devrient Gmb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chnology and Market Tre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rt Cards will contin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o provide authenticity, confidentiality, security and trust in electronic transaction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especially in electronic paym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o be used as a 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ecure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identification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kind of log-on or user identification (SIM, .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lemented by biometrics in dedicated app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reased usage of smart cards in the PC and internet 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ecurity threats by hackers in the int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nd-to-end security necess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ure trace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valuation of Technology and Marketing Require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3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art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eed of interoperability, open platfor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compatible with proprietary and exotic communication protoco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ternet everywhere, need of high speed peripher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le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Cooperation with IT industry, use of same communication protoco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reless local area networks (W-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ternet everywhere, need of security improve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Potential market for smart car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3300"/>
                </a:solidFill>
                <a:latin typeface="Arial"/>
              </a:rPr>
              <a:t>Lack of reachability/connectivity of smart card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3300"/>
                </a:solidFill>
                <a:latin typeface="Arial"/>
              </a:rPr>
              <a:t>In term of physical interface, communication protocol and communication mod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chnology and Market Trends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cont’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-application cards need special secu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tegrity and strict separation of the different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evention of unauthorized access to card file systems or confidential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gh-end 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ig key-leng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gh-speed encryption and decryp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arch and Technology Development Prior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of secure smart card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 physical security protection techniques for the smart card chips, devise tamper-resistance, tamper protection &amp; detection mechanis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 means to eliminate information leakage through side channel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ed secure re-programmable smart card chips to be able to re-configure processo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arch and Technology Development Priorities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cont’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ion and prevention of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develop 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xisting invasive and non-invasive attacks and develop countermeas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odelling of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ttacks on smart car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arch and Technology Development Priorities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cont’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 and implementation of high-end cryp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hance the security of smart cards in the PC and internet environment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-the-fly encryption and decryp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ew public-key algorithms for smart cards without crypto process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n-chip random number generator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ecure on-chip key gen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hance security and the speed of the contactless interfa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arch and Technology Development Priorities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cont’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 of secure smart card software and protoc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 means for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ecure software upd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ecurity for cards with a built-in user interf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 g. cards with keyboard, display, senso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ecure compilers (producing safe co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 and adjust evaluation methods accordingl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ique Ca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-Paul Thomas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T WG6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476360" y="2997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Arial Black"/>
              </a:rPr>
              <a:t>WG6 Micro-Electron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emiconductor Technology Trends &amp; Market Requirement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RS *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s the global technology roadmap over a 15 years period for all applications. Regularly updated by the World Semiconductor Industry Assoc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artcard IC’s designers use rules &amp; tools, and wafers are made on fabrication lines as per ITRS road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art card IC market still &lt; 1% of total semi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ve Laws paradigm applies now to smart c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k-set &amp; tools cost continuously increasing pushing for higher system integration, longer life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om Secure MCU to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Secure System On C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54960" y="556272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national Technology Roadmap for Semicondu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 &amp; Research Orientation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19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Performance optimisation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chitecture: 32b CPU – Memor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mory technology (capacity and access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P re-u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&amp; die size (for card embed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76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lexibilit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ime to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tform concept +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arty IP blocks + re-configu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urity (camouflage &amp; maintenanc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76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velopment methodology and environ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echnology R&amp;D Priorit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-medium ter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gh-performance Non Volati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gh-performance Standard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consumption (MIPS/m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inuous tamper resistance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dium/long ter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ult resistant IP blocks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-configurable  archite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effective camouflage technolo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memory technology  (high density &amp; fast RAM+ NV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ontribution of Micro-electronics R&amp;D to RES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ployment of the Smart Card technology in an “Any time - Anywhere” world (Interne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gration of High performance Operating Systems including new Java C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 the Trust &amp; Confidence of all stakeholders of the value chain and of  citizens for Smart Card technolog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migration path to Trusted Smart Obje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Orientation for improve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formance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Kbit/s to 100 Mbits/s for data exchange speed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w power consumption for enhanced port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ull-duplex for multi-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nectivity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CP/IPv6 for internet protoc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urity of connection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rt new communic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ulti-tasking 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aster access to NV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mproved RAM capa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arch and Technology Development Priorit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134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rating system (see WG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tasking operat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ware requirements (see WG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bedded RF, Embedded battery, Faster NVM access, Larger 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y requirements (see WG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intenance of privacy and security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vity with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lementation of mobile nodes connected through wireless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 of W-LAN technologies for large and dense self-organizing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tribution to RESE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5614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rt / medium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Physical lin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hanced standard link between terminal and smart 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 speed 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unication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n-exotic / non proprietary communication protocols easy to 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gration in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gration in wired and wireless Internet access specif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3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ong ter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Migration path to smart objec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Wireless objets protoco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3300"/>
                </a:solidFill>
                <a:latin typeface="Arial"/>
              </a:rPr>
              <a:t>Tentative time schedu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Pv6 integration  -  short term (2 years from n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igh speed protocol  -  short term (2 years from n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lti-tasking  -  medium to long term (2 to 5 years from n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reless solution  -  medium to long term (2 to 5 years from n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theïna Cheta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lumbe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2997360"/>
            <a:ext cx="619128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"/>
              </a:rPr>
              <a:t>WG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"/>
              </a:rPr>
              <a:t>Systems &amp; Softw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articipants to the grou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319480"/>
            <a:ext cx="784692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lrich Büker, ORGA Kartensyste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illes Barthe, INR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aan Priisalu, Cybernetic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rik Poll, U Nijme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theina Chetali, Schlumberg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Gilles Grimaud, U L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an-Louis Lanet, Gemplu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Xavier Leroy, IN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an-Jacques Vandewalle, Gemplus            Michael Butler, U Southamp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naud Marlet, Trusted Log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mokrane Saibi, Oberthur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dier Begay, France Tele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valuation of Technology and Marketing Require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perating Systems &amp; High level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upport new upcoming hardwar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upport multi-applications (not only capacity but concurrent exec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eed of high-level multi-purpose languages, and portable and efficient low level languages (dedicated features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apt the results from software engineering field (restricted resources and secu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alidation and cer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6:55:33Z</dcterms:created>
  <dc:creator>trutkowski</dc:creator>
  <dc:description/>
  <dc:language>en-US</dc:language>
  <cp:lastModifiedBy>FLORENCE Gras</cp:lastModifiedBy>
  <cp:lastPrinted>2003-01-31T14:01:30Z</cp:lastPrinted>
  <dcterms:modified xsi:type="dcterms:W3CDTF">2003-04-09T10:28:36Z</dcterms:modified>
  <cp:revision>193</cp:revision>
  <dc:subject/>
  <dc:title>ENUM Implementation in the US</dc:title>
</cp:coreProperties>
</file>